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9484-4CE4-4612-A928-A78E9894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766A-97BB-436B-B871-8AD0798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186A-61E3-49FD-8D7B-B9158CA7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F506-57D9-41FE-B729-F27C8AED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4E0B-CBFE-47D8-A4A0-0B0C113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3DB6-7303-42A2-B3AA-FDAEE37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F1D4-A80C-4B44-B37C-7678630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17C-6BED-4A39-93E0-7E374562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80BE-93F2-4F44-904D-58F50280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D2C-A0C2-4D83-A2BD-AFE53BC8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0125-2016-4812-A03D-BAC89E9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FA6D-E0A4-4B5E-B379-0A5EB565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928-4FA1-41B4-83FE-E3CBCA4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DC2-A482-462E-A216-8194103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E2F-0DBB-4DF1-A7A0-DD45F7DD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FA12-D3BE-427C-AC66-D4C140A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16CB-CC02-4E52-BD28-4267F7E5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C931-4F70-4DC1-A037-356737AF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341F-C9DB-4EDA-85BF-7575AD5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47AF-2FEB-4311-81B2-516D3CA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5FC8-B91B-4F9A-8F4C-D5218F65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AC45-3668-467F-8AC4-C38EFA8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30FA-5175-4A52-BD11-67BA495E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A631-F724-4ED1-8366-A819420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394-7699-4CA2-B9E2-BF7E51E18A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5A6-338C-44AE-8514-7976CF2FDC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Uram, itt vagyok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változtasd meg szívemet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ert tőled árad rám a kegyelem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Uram, beismerem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hogy gyengeség van még bennem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De van szabadító, féltő szereteted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öjj közel, tarts jelenlétedben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raszd rám szent kenetedet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hogy várlak, felkelek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int sasmadár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És szárnyalok Veled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e Szellemed vezet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mennyhez közelebb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yisd meg értelm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j új látást nek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udjam meg, hogy szeretsz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és bennem élsz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ram, taníts, vezess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óságodra emlékeztess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ős jobbod legy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 nap velem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Jöjj közel, tarts jelenlétedben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Áraszd rám szent kenetedet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hogy várlak, felkelek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mint sasmadár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És szárnyalok Veled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Te Szellemed vezet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mennyhez közelebb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8675640" y="189000"/>
            <a:ext cx="339840" cy="360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5:48:52Z</dcterms:created>
  <dc:creator>Gyügyei Tamás</dc:creator>
  <dc:description/>
  <dc:language>en-US</dc:language>
  <cp:lastModifiedBy>Gyügyei Tamás</cp:lastModifiedBy>
  <dcterms:modified xsi:type="dcterms:W3CDTF">2005-04-09T12:46:18Z</dcterms:modified>
  <cp:revision>2</cp:revision>
  <dc:subject/>
  <dc:title>Uram, itt vagyok, változtad meg szívemet, Mert tőled árad rám a kegyelem, Uram, beismerem, hogy gyengeség van még bennem, De van szabadító, féltő szereteted!</dc:title>
</cp:coreProperties>
</file>